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8496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" y="3673440"/>
            <a:ext cx="8496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184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000" y="367344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1840" y="367344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800" y="152388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600" y="152388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" y="367344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800" y="367344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600" y="3673440"/>
            <a:ext cx="27356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000" y="15238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41461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1840" y="1523880"/>
            <a:ext cx="41461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1840" y="1523880"/>
            <a:ext cx="41461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000" y="367344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41461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184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1840" y="367344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1840" y="1523880"/>
            <a:ext cx="414612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" y="3673440"/>
            <a:ext cx="8496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000" y="15238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77960" indent="-300240">
              <a:spcBef>
                <a:spcPts val="649"/>
              </a:spcBef>
              <a:buClr>
                <a:srgbClr val="8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97000" indent="-239760"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3" marL="1676520" indent="-239760">
              <a:spcBef>
                <a:spcPts val="649"/>
              </a:spcBef>
              <a:buClr>
                <a:srgbClr val="800000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4" marL="2155680" indent="-239400">
              <a:spcBef>
                <a:spcPts val="649"/>
              </a:spcBef>
              <a:buClr>
                <a:srgbClr val="80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5" marL="2155680" indent="-239400">
              <a:spcBef>
                <a:spcPts val="649"/>
              </a:spcBef>
              <a:buClr>
                <a:srgbClr val="d2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  <a:p>
            <a:pPr lvl="6" marL="2155680" indent="-239400">
              <a:spcBef>
                <a:spcPts val="649"/>
              </a:spcBef>
              <a:buClr>
                <a:srgbClr val="d20000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51920" y="6319440"/>
            <a:ext cx="2210040" cy="304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1" i="1" lang="de-DE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FBD1464-38A2-4632-92A7-5C7A7AF5DA26}" type="datetime">
              <a:rPr b="1" i="1" lang="de-DE" sz="1400" spc="-1" strike="noStrike">
                <a:solidFill>
                  <a:srgbClr val="80808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9640" y="333360"/>
            <a:ext cx="84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380360" y="1413000"/>
            <a:ext cx="1674000" cy="4032000"/>
            <a:chOff x="7380360" y="1413000"/>
            <a:chExt cx="1674000" cy="4032000"/>
          </a:xfrm>
        </p:grpSpPr>
        <p:sp>
          <p:nvSpPr>
            <p:cNvPr id="42" name=""/>
            <p:cNvSpPr/>
            <p:nvPr/>
          </p:nvSpPr>
          <p:spPr>
            <a:xfrm>
              <a:off x="7380360" y="1413000"/>
              <a:ext cx="1655640" cy="4032000"/>
            </a:xfrm>
            <a:prstGeom prst="rect">
              <a:avLst/>
            </a:prstGeom>
            <a:solidFill>
              <a:srgbClr val="99ccff">
                <a:alpha val="3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5400000">
              <a:off x="7884360" y="3157920"/>
              <a:ext cx="203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joinIT OS  Workbench</a:t>
              </a:r>
              <a:endParaRPr b="0" lang="en-US" sz="14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 flipH="1" flipV="1">
            <a:off x="4140000" y="3789360"/>
            <a:ext cx="1871640" cy="1440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4788000" y="1628640"/>
            <a:ext cx="1944720" cy="302436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163800"/>
            <a:ext cx="1082520" cy="928440"/>
          </a:xfrm>
          <a:prstGeom prst="can">
            <a:avLst>
              <a:gd name="adj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ia JDBC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163800"/>
            <a:ext cx="1082520" cy="928440"/>
          </a:xfrm>
          <a:prstGeom prst="can">
            <a:avLst>
              <a:gd name="adj" fmla="val 25000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OS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28640"/>
            <a:ext cx="3384720" cy="158292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23080" y="167220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oinIT Web</a:t>
            </a:r>
            <a:endParaRPr b="0" lang="en-US" sz="2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755640" y="2204280"/>
            <a:ext cx="1166760" cy="64152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äsentations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ttform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2411280" y="2279520"/>
            <a:ext cx="1362240" cy="46044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bench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908000" y="2492280"/>
            <a:ext cx="5032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701720"/>
            <a:ext cx="1440000" cy="339840"/>
          </a:xfrm>
          <a:prstGeom prst="rect">
            <a:avLst/>
          </a:prstGeom>
          <a:solidFill>
            <a:srgbClr val="99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ia File-Laye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20720" y="263592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oinIT OS</a:t>
            </a:r>
            <a:endParaRPr b="0" lang="en-US" sz="2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16800" y="1484280"/>
            <a:ext cx="1158840" cy="584280"/>
          </a:xfrm>
          <a:prstGeom prst="rect">
            <a:avLst/>
          </a:prstGeom>
          <a:solidFill>
            <a:srgbClr val="99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59280" y="5229360"/>
            <a:ext cx="1333800" cy="576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Z-Schedule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.B. OPC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2637000"/>
            <a:ext cx="1158840" cy="583920"/>
          </a:xfrm>
          <a:prstGeom prst="rect">
            <a:avLst/>
          </a:prstGeom>
          <a:solidFill>
            <a:srgbClr val="99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4797360"/>
            <a:ext cx="1158840" cy="584280"/>
          </a:xfrm>
          <a:prstGeom prst="rect">
            <a:avLst/>
          </a:prstGeom>
          <a:solidFill>
            <a:srgbClr val="99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oinIT Scheduling 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7080" y="4503600"/>
            <a:ext cx="1224000" cy="71604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andardisiertes Reporting zur Weiterverarbeitung</a:t>
            </a:r>
            <a:endParaRPr b="0" lang="en-US" sz="8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SV, TXT</a:t>
            </a:r>
            <a:endParaRPr b="0" lang="en-US" sz="8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508640"/>
            <a:ext cx="1225440" cy="715680"/>
          </a:xfrm>
          <a:prstGeom prst="can">
            <a:avLst>
              <a:gd name="adj" fmla="val 25000"/>
            </a:avLst>
          </a:prstGeom>
          <a:solidFill>
            <a:srgbClr val="99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ividuelle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5013360"/>
            <a:ext cx="1512720" cy="93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put für beliebige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gramme ode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 zOS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0" idx="3"/>
            <a:endCxn id="50" idx="1"/>
          </p:cNvCxnSpPr>
          <p:nvPr/>
        </p:nvCxnSpPr>
        <p:spPr>
          <a:xfrm flipV="1" rot="16200000">
            <a:off x="504360" y="2775960"/>
            <a:ext cx="2699640" cy="2197440"/>
          </a:xfrm>
          <a:prstGeom prst="bentConnector4">
            <a:avLst>
              <a:gd name="adj1" fmla="val -8482"/>
              <a:gd name="adj2" fmla="val 110421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2987640" y="3429000"/>
            <a:ext cx="1158840" cy="584280"/>
          </a:xfrm>
          <a:prstGeom prst="rect">
            <a:avLst/>
          </a:prstGeom>
          <a:solidFill>
            <a:srgbClr val="99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ript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1"/>
            <a:endCxn id="59" idx="1"/>
          </p:cNvCxnSpPr>
          <p:nvPr/>
        </p:nvCxnSpPr>
        <p:spPr>
          <a:xfrm flipV="1" rot="10800000">
            <a:off x="1369080" y="3720960"/>
            <a:ext cx="1618920" cy="783000"/>
          </a:xfrm>
          <a:prstGeom prst="bent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3" idx="2"/>
            <a:endCxn id="60" idx="1"/>
          </p:cNvCxnSpPr>
          <p:nvPr/>
        </p:nvCxnSpPr>
        <p:spPr>
          <a:xfrm rot="5400000">
            <a:off x="3012120" y="3953880"/>
            <a:ext cx="495720" cy="614520"/>
          </a:xfrm>
          <a:prstGeom prst="bentConnector3">
            <a:avLst>
              <a:gd name="adj1" fmla="val 5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endCxn id="61" idx="1"/>
          </p:cNvCxnSpPr>
          <p:nvPr/>
        </p:nvCxnSpPr>
        <p:spPr>
          <a:xfrm>
            <a:off x="3132000" y="5229000"/>
            <a:ext cx="719640" cy="253080"/>
          </a:xfrm>
          <a:prstGeom prst="bentConnector3">
            <a:avLst>
              <a:gd name="adj1" fmla="val 34134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7" idx="4"/>
            <a:endCxn id="55" idx="0"/>
          </p:cNvCxnSpPr>
          <p:nvPr/>
        </p:nvCxnSpPr>
        <p:spPr>
          <a:xfrm>
            <a:off x="5583240" y="628200"/>
            <a:ext cx="2513160" cy="85644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5" idx="2"/>
          </p:cNvCxnSpPr>
          <p:nvPr/>
        </p:nvCxnSpPr>
        <p:spPr>
          <a:xfrm rot="5400000">
            <a:off x="7214040" y="1586520"/>
            <a:ext cx="400320" cy="1364040"/>
          </a:xfrm>
          <a:prstGeom prst="curvedConnector3">
            <a:avLst>
              <a:gd name="adj1" fmla="val 25382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endCxn id="57" idx="0"/>
          </p:cNvCxnSpPr>
          <p:nvPr/>
        </p:nvCxnSpPr>
        <p:spPr>
          <a:xfrm flipH="1" rot="16200000">
            <a:off x="7349760" y="1882800"/>
            <a:ext cx="137160" cy="1371600"/>
          </a:xfrm>
          <a:prstGeom prst="curvedConnector3">
            <a:avLst>
              <a:gd name="adj1" fmla="val 2421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>
            <a:off x="6732720" y="3428640"/>
            <a:ext cx="1372320" cy="13716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endCxn id="58" idx="0"/>
          </p:cNvCxnSpPr>
          <p:nvPr/>
        </p:nvCxnSpPr>
        <p:spPr>
          <a:xfrm flipH="1" rot="16200000">
            <a:off x="7093440" y="3786840"/>
            <a:ext cx="505080" cy="1516320"/>
          </a:xfrm>
          <a:prstGeom prst="curvedConnector3">
            <a:avLst>
              <a:gd name="adj1" fmla="val 24679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524720" y="3573360"/>
            <a:ext cx="1158840" cy="584280"/>
          </a:xfrm>
          <a:prstGeom prst="rect">
            <a:avLst/>
          </a:prstGeom>
          <a:solidFill>
            <a:srgbClr val="99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CL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57" idx="2"/>
          </p:cNvCxnSpPr>
          <p:nvPr/>
        </p:nvCxnSpPr>
        <p:spPr>
          <a:xfrm rot="5400000">
            <a:off x="7325640" y="2627280"/>
            <a:ext cx="185040" cy="1371960"/>
          </a:xfrm>
          <a:prstGeom prst="curvedConnector3">
            <a:avLst>
              <a:gd name="adj1" fmla="val 2573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2" idx="2"/>
            <a:endCxn id="75" idx="3"/>
          </p:cNvCxnSpPr>
          <p:nvPr/>
        </p:nvCxnSpPr>
        <p:spPr>
          <a:xfrm rot="5400000">
            <a:off x="7301160" y="3444120"/>
            <a:ext cx="89280" cy="151632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48360" y="4076640"/>
            <a:ext cx="1439640" cy="339840"/>
          </a:xfrm>
          <a:prstGeom prst="rect">
            <a:avLst/>
          </a:prstGeom>
          <a:solidFill>
            <a:srgbClr val="99cc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lauffähige JCL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58" idx="2"/>
            <a:endCxn id="56" idx="3"/>
          </p:cNvCxnSpPr>
          <p:nvPr/>
        </p:nvCxnSpPr>
        <p:spPr>
          <a:xfrm rot="5400000">
            <a:off x="7530480" y="4943880"/>
            <a:ext cx="136080" cy="101124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 flipH="1" flipV="1">
            <a:off x="4140360" y="3715920"/>
            <a:ext cx="1008000" cy="576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6" idx="2"/>
          </p:cNvCxnSpPr>
          <p:nvPr/>
        </p:nvCxnSpPr>
        <p:spPr>
          <a:xfrm flipV="1" rot="10800000">
            <a:off x="2231280" y="628200"/>
            <a:ext cx="828000" cy="1104840"/>
          </a:xfrm>
          <a:prstGeom prst="bentConnector3">
            <a:avLst>
              <a:gd name="adj1" fmla="val 63810"/>
            </a:avLst>
          </a:prstGeom>
          <a:ln w="3240">
            <a:solidFill>
              <a:srgbClr val="000000"/>
            </a:solidFill>
            <a:miter/>
            <a:headEnd len="med" type="oval" w="med"/>
            <a:tailEnd len="lg" type="triangle" w="lg"/>
          </a:ln>
        </p:spPr>
      </p:cxnSp>
      <p:cxnSp>
        <p:nvCxnSpPr>
          <p:cNvPr id="79" name=""/>
          <p:cNvCxnSpPr>
            <a:stCxn id="47" idx="4"/>
            <a:endCxn id="53" idx="0"/>
          </p:cNvCxnSpPr>
          <p:nvPr/>
        </p:nvCxnSpPr>
        <p:spPr>
          <a:xfrm>
            <a:off x="5583240" y="628200"/>
            <a:ext cx="213840" cy="1073880"/>
          </a:xfrm>
          <a:prstGeom prst="bentConnector4">
            <a:avLst>
              <a:gd name="adj1" fmla="val 107082"/>
              <a:gd name="adj2" fmla="val 71629"/>
            </a:avLst>
          </a:prstGeom>
          <a:ln w="3240">
            <a:solidFill>
              <a:srgbClr val="000000"/>
            </a:solidFill>
            <a:miter/>
            <a:headEnd len="med" type="oval" w="med"/>
            <a:tailEnd len="lg" type="triangle" w="lg"/>
          </a:ln>
        </p:spPr>
      </p:cxnSp>
      <p:cxnSp>
        <p:nvCxnSpPr>
          <p:cNvPr id="80" name=""/>
          <p:cNvCxnSpPr>
            <a:stCxn id="59" idx="2"/>
          </p:cNvCxnSpPr>
          <p:nvPr/>
        </p:nvCxnSpPr>
        <p:spPr>
          <a:xfrm flipH="1" rot="10800000">
            <a:off x="756720" y="2707560"/>
            <a:ext cx="1974240" cy="2154240"/>
          </a:xfrm>
          <a:prstGeom prst="bentConnector3">
            <a:avLst>
              <a:gd name="adj1" fmla="val -11581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3E2D8-BBB0-40B9-A691-8D60803FE7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79640" y="907920"/>
            <a:ext cx="3529080" cy="525780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2932200"/>
            <a:ext cx="2592360" cy="150480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andardfunktionalitäten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-8280"/>
            <a:ext cx="3819600" cy="723600"/>
          </a:xfrm>
          <a:prstGeom prst="can">
            <a:avLst>
              <a:gd name="adj" fmla="val 29972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B2     IMS      TABEX      PO/PS        VSAM      PDS    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6320" y="479700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oinIT OS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1197000"/>
            <a:ext cx="1158840" cy="58428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ruktur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2924280"/>
            <a:ext cx="1158840" cy="58392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3"/>
            <a:endCxn id="85" idx="0"/>
          </p:cNvCxnSpPr>
          <p:nvPr/>
        </p:nvCxnSpPr>
        <p:spPr>
          <a:xfrm>
            <a:off x="7596000" y="512280"/>
            <a:ext cx="508680" cy="68508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5" idx="2"/>
          </p:cNvCxnSpPr>
          <p:nvPr/>
        </p:nvCxnSpPr>
        <p:spPr>
          <a:xfrm rot="5400000">
            <a:off x="6040440" y="672120"/>
            <a:ext cx="954720" cy="317268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91" idx="3"/>
            <a:endCxn id="86" idx="0"/>
          </p:cNvCxnSpPr>
          <p:nvPr/>
        </p:nvCxnSpPr>
        <p:spPr>
          <a:xfrm>
            <a:off x="4932000" y="2816280"/>
            <a:ext cx="3172680" cy="10872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V="1">
            <a:off x="4066920" y="5229000"/>
            <a:ext cx="3431160" cy="20880"/>
          </a:xfrm>
          <a:prstGeom prst="curvedConnector5">
            <a:avLst>
              <a:gd name="adj1" fmla="val 49968"/>
              <a:gd name="adj2" fmla="val 49122"/>
              <a:gd name="adj3" fmla="val 49968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524720" y="4869000"/>
            <a:ext cx="1158840" cy="58392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L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6" idx="2"/>
            <a:endCxn id="95" idx="3"/>
          </p:cNvCxnSpPr>
          <p:nvPr/>
        </p:nvCxnSpPr>
        <p:spPr>
          <a:xfrm rot="5400000">
            <a:off x="5261760" y="2339640"/>
            <a:ext cx="1674000" cy="401076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2"/>
            <a:endCxn id="97" idx="3"/>
          </p:cNvCxnSpPr>
          <p:nvPr/>
        </p:nvCxnSpPr>
        <p:spPr>
          <a:xfrm rot="5400000">
            <a:off x="6442920" y="4032000"/>
            <a:ext cx="240480" cy="308232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411280" y="5445000"/>
            <a:ext cx="2611440" cy="49392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lauffähige JCL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907920"/>
            <a:ext cx="3240000" cy="93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le-Layer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B2        IMS       TABEX        PO/PS      VSAM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1197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QLCA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1197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QLCA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1197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SB Gen.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1197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omm.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ruktur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1197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EOF                EOF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Länge AREA über JFCB 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9600" y="50130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ript 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43640" y="189000"/>
            <a:ext cx="1152720" cy="647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pybook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B2-Catalog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795640" y="404280"/>
            <a:ext cx="6476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2205000"/>
            <a:ext cx="2611440" cy="49392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ariabler join verschiedener Datenbestände über die File-Objekte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6320" y="150804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le-Objekte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1557360"/>
            <a:ext cx="3240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77080" y="1844640"/>
            <a:ext cx="1259640" cy="360360"/>
            <a:chOff x="3277080" y="1844640"/>
            <a:chExt cx="1259640" cy="360360"/>
          </a:xfrm>
        </p:grpSpPr>
        <p:sp>
          <p:nvSpPr>
            <p:cNvPr id="109" name=""/>
            <p:cNvSpPr/>
            <p:nvPr/>
          </p:nvSpPr>
          <p:spPr>
            <a:xfrm>
              <a:off x="3835440" y="1844640"/>
              <a:ext cx="0" cy="36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7080" y="1916280"/>
              <a:ext cx="125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ögliche Operationen</a:t>
              </a:r>
              <a:endParaRPr b="0" lang="en-US" sz="8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5280" y="1557360"/>
            <a:ext cx="32400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844640"/>
            <a:ext cx="32400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11440" y="3251160"/>
            <a:ext cx="2298600" cy="27000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enkonvertierung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2708280"/>
            <a:ext cx="2305080" cy="21600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eld- bzw. Satzbeschreibung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11440" y="3538440"/>
            <a:ext cx="2308320" cy="27000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alenderrechnung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1440" y="3819600"/>
            <a:ext cx="2308320" cy="26964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nonymisierte Datengenerierung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83" idx="2"/>
            <a:endCxn id="106" idx="1"/>
          </p:cNvCxnSpPr>
          <p:nvPr/>
        </p:nvCxnSpPr>
        <p:spPr>
          <a:xfrm flipV="1" rot="10800000">
            <a:off x="610560" y="353520"/>
            <a:ext cx="1369080" cy="1323360"/>
          </a:xfrm>
          <a:prstGeom prst="curvedConnector5">
            <a:avLst>
              <a:gd name="adj1" fmla="val 116701"/>
              <a:gd name="adj2" fmla="val 49986"/>
              <a:gd name="adj3" fmla="val 116701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2282040" y="16066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d20000"/>
                </a:solidFill>
                <a:latin typeface="Arial"/>
              </a:rPr>
              <a:t>joinIT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280" y="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OS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5800" y="198900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zeugt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94520" y="39337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zeugt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57800" y="54165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zeugt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92640" y="47628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PUT für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65520" y="285264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PUT für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65520" y="491328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PUT für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0920" y="907920"/>
            <a:ext cx="1728720" cy="2089440"/>
          </a:xfrm>
          <a:prstGeom prst="line">
            <a:avLst/>
          </a:prstGeom>
          <a:ln w="12600">
            <a:solidFill>
              <a:srgbClr val="99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50920" y="3500280"/>
            <a:ext cx="1728720" cy="2665440"/>
          </a:xfrm>
          <a:prstGeom prst="line">
            <a:avLst/>
          </a:prstGeom>
          <a:ln w="12600">
            <a:solidFill>
              <a:srgbClr val="99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467240"/>
            <a:ext cx="2611440" cy="33804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IT  -  Direktzugriff joinIT-File-Objekt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0360" y="29962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oinIT OS</a:t>
            </a:r>
            <a:endParaRPr b="0" lang="en-US" sz="2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2000" y="36360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d20000"/>
                </a:solidFill>
                <a:latin typeface="Arial"/>
              </a:rPr>
              <a:t>joinIT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11440" y="4105440"/>
            <a:ext cx="2308320" cy="26964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iele mehr !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280" y="3338640"/>
            <a:ext cx="3407040" cy="1655640"/>
          </a:xfrm>
          <a:prstGeom prst="wedgeRoundRectCallout">
            <a:avLst>
              <a:gd name="adj1" fmla="val 31407"/>
              <a:gd name="adj2" fmla="val 75407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cc"/>
                </a:solidFill>
                <a:latin typeface="Arial"/>
              </a:rPr>
              <a:t>Vorteil</a:t>
            </a:r>
            <a:br>
              <a:rPr sz="1600"/>
            </a:b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sprechend der  Dateiorganisationsform wird ablauffähige JCL erzeugt !!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6360" y="3933720"/>
            <a:ext cx="3673440" cy="1656000"/>
          </a:xfrm>
          <a:prstGeom prst="wedgeRoundRectCallout">
            <a:avLst>
              <a:gd name="adj1" fmla="val -87597"/>
              <a:gd name="adj2" fmla="val -216537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cc"/>
                </a:solidFill>
                <a:latin typeface="Arial"/>
              </a:rPr>
              <a:t>Vorteil</a:t>
            </a:r>
            <a:br>
              <a:rPr sz="1600"/>
            </a:b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griff ohne Kenntnisse der Dateiorganisationsformen !!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363680"/>
            <a:ext cx="3960720" cy="1655640"/>
          </a:xfrm>
          <a:prstGeom prst="wedgeRoundRectCallout">
            <a:avLst>
              <a:gd name="adj1" fmla="val 31523"/>
              <a:gd name="adj2" fmla="val 16917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cc"/>
                </a:solidFill>
                <a:latin typeface="Arial"/>
              </a:rPr>
              <a:t>Vorteil</a:t>
            </a:r>
            <a:br>
              <a:rPr sz="1600"/>
            </a:b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hne Programmierung Standardprogramme für  Listen oder CSV-Dateien !!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7196D-1725-4249-AFEB-F8CEBA8057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867280" y="1481040"/>
            <a:ext cx="1440000" cy="339840"/>
          </a:xfrm>
          <a:prstGeom prst="rect">
            <a:avLst/>
          </a:prstGeom>
          <a:solidFill>
            <a:srgbClr val="b2b2b2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joinIT  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File-Objekt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5580000" y="1052640"/>
            <a:ext cx="1944720" cy="3024000"/>
          </a:xfrm>
          <a:prstGeom prst="rect">
            <a:avLst/>
          </a:prstGeom>
          <a:solidFill>
            <a:srgbClr val="b2b2b2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628640"/>
            <a:ext cx="3384720" cy="1582920"/>
          </a:xfrm>
          <a:prstGeom prst="rect">
            <a:avLst/>
          </a:prstGeom>
          <a:solidFill>
            <a:srgbClr val="b2b2b2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3080" y="167220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oinIT Web</a:t>
            </a:r>
            <a:endParaRPr b="0" lang="en-US" sz="2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755640" y="2204280"/>
            <a:ext cx="1166760" cy="641520"/>
          </a:xfrm>
          <a:prstGeom prst="rect">
            <a:avLst/>
          </a:prstGeom>
          <a:solidFill>
            <a:srgbClr val="b2b2b2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äsentations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ttform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2412000" y="2277000"/>
            <a:ext cx="1360440" cy="459000"/>
          </a:xfrm>
          <a:prstGeom prst="rect">
            <a:avLst/>
          </a:prstGeom>
          <a:solidFill>
            <a:srgbClr val="b2b2b2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bench bzw.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e-Objekt Edito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908000" y="2492280"/>
            <a:ext cx="5032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9080" y="1125360"/>
            <a:ext cx="1439640" cy="339840"/>
          </a:xfrm>
          <a:prstGeom prst="rect">
            <a:avLst/>
          </a:prstGeom>
          <a:solidFill>
            <a:srgbClr val="b2b2b2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ile-Laye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720" y="205956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oinIT OS</a:t>
            </a:r>
            <a:endParaRPr b="0" lang="en-US" sz="2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16720" y="5229360"/>
            <a:ext cx="1476360" cy="576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Z-Schedule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.B. OPC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96360" y="4797360"/>
            <a:ext cx="1158840" cy="584280"/>
          </a:xfrm>
          <a:prstGeom prst="rect">
            <a:avLst/>
          </a:prstGeom>
          <a:solidFill>
            <a:srgbClr val="99ccff">
              <a:alpha val="67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oinIT Scheduling 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9" idx="3"/>
            <a:endCxn id="146" idx="1"/>
          </p:cNvCxnSpPr>
          <p:nvPr/>
        </p:nvCxnSpPr>
        <p:spPr>
          <a:xfrm flipV="1">
            <a:off x="3773160" y="1648800"/>
            <a:ext cx="2096280" cy="857880"/>
          </a:xfrm>
          <a:prstGeom prst="bentConnector3">
            <a:avLst>
              <a:gd name="adj1" fmla="val 50000"/>
            </a:avLst>
          </a:prstGeom>
          <a:ln w="3240">
            <a:solidFill>
              <a:srgbClr val="000000"/>
            </a:solidFill>
            <a:miter/>
            <a:headEnd len="med" type="oval" w="med"/>
            <a:tailEnd len="lg" type="triangle" w="med"/>
          </a:ln>
        </p:spPr>
      </p:cxnSp>
      <p:sp>
        <p:nvSpPr>
          <p:cNvPr id="147" name=""/>
          <p:cNvSpPr/>
          <p:nvPr/>
        </p:nvSpPr>
        <p:spPr>
          <a:xfrm>
            <a:off x="757080" y="4503600"/>
            <a:ext cx="1224000" cy="716040"/>
          </a:xfrm>
          <a:prstGeom prst="can">
            <a:avLst>
              <a:gd name="adj" fmla="val 25000"/>
            </a:avLst>
          </a:prstGeom>
          <a:solidFill>
            <a:srgbClr val="99ccff">
              <a:alpha val="67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andardisiertes Reporting zur Weiterverarbeitung</a:t>
            </a:r>
            <a:endParaRPr b="0" lang="en-US" sz="8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SV, TXT</a:t>
            </a:r>
            <a:endParaRPr b="0" lang="en-US" sz="8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000" y="4508640"/>
            <a:ext cx="1225440" cy="715680"/>
          </a:xfrm>
          <a:prstGeom prst="can">
            <a:avLst>
              <a:gd name="adj" fmla="val 25000"/>
            </a:avLst>
          </a:prstGeom>
          <a:solidFill>
            <a:srgbClr val="99ccff">
              <a:alpha val="67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ividuelle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5013360"/>
            <a:ext cx="1512720" cy="93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put für beliebige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gramme ode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 zOS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3"/>
            <a:endCxn id="138" idx="1"/>
          </p:cNvCxnSpPr>
          <p:nvPr/>
        </p:nvCxnSpPr>
        <p:spPr>
          <a:xfrm flipV="1" rot="16200000">
            <a:off x="504360" y="2775960"/>
            <a:ext cx="2699280" cy="2197800"/>
          </a:xfrm>
          <a:prstGeom prst="bentConnector4">
            <a:avLst>
              <a:gd name="adj1" fmla="val -8403"/>
              <a:gd name="adj2" fmla="val 119495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987640" y="3429000"/>
            <a:ext cx="1158840" cy="584280"/>
          </a:xfrm>
          <a:prstGeom prst="rect">
            <a:avLst/>
          </a:prstGeom>
          <a:solidFill>
            <a:srgbClr val="99ccff">
              <a:alpha val="67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ript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1"/>
            <a:endCxn id="147" idx="1"/>
          </p:cNvCxnSpPr>
          <p:nvPr/>
        </p:nvCxnSpPr>
        <p:spPr>
          <a:xfrm flipV="1" rot="10800000">
            <a:off x="1369440" y="3720600"/>
            <a:ext cx="1618200" cy="783360"/>
          </a:xfrm>
          <a:prstGeom prst="bent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2"/>
            <a:endCxn id="148" idx="1"/>
          </p:cNvCxnSpPr>
          <p:nvPr/>
        </p:nvCxnSpPr>
        <p:spPr>
          <a:xfrm rot="5400000">
            <a:off x="3011400" y="3953520"/>
            <a:ext cx="496080" cy="615240"/>
          </a:xfrm>
          <a:prstGeom prst="bentConnector3">
            <a:avLst>
              <a:gd name="adj1" fmla="val 49963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endCxn id="149" idx="1"/>
          </p:cNvCxnSpPr>
          <p:nvPr/>
        </p:nvCxnSpPr>
        <p:spPr>
          <a:xfrm flipH="1" flipV="1" rot="10800000">
            <a:off x="3131640" y="5229000"/>
            <a:ext cx="720000" cy="253080"/>
          </a:xfrm>
          <a:prstGeom prst="bentConnector3">
            <a:avLst>
              <a:gd name="adj1" fmla="val -4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940360" y="3500280"/>
            <a:ext cx="1440000" cy="339840"/>
          </a:xfrm>
          <a:prstGeom prst="rect">
            <a:avLst/>
          </a:prstGeom>
          <a:solidFill>
            <a:srgbClr val="99ccff">
              <a:alpha val="67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lauffähige JCL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4" idx="2"/>
          </p:cNvCxnSpPr>
          <p:nvPr/>
        </p:nvCxnSpPr>
        <p:spPr>
          <a:xfrm rot="5400000">
            <a:off x="7542360" y="4931280"/>
            <a:ext cx="183240" cy="108324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588000" y="1484280"/>
            <a:ext cx="0" cy="33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4920" y="1484280"/>
            <a:ext cx="0" cy="33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91200" y="1484280"/>
            <a:ext cx="0" cy="33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55000" y="1484280"/>
            <a:ext cx="0" cy="33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5" idx="3"/>
            <a:endCxn id="144" idx="0"/>
          </p:cNvCxnSpPr>
          <p:nvPr/>
        </p:nvCxnSpPr>
        <p:spPr>
          <a:xfrm>
            <a:off x="7380000" y="3669840"/>
            <a:ext cx="795960" cy="112788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H="1" rot="10800000">
            <a:off x="756720" y="2707560"/>
            <a:ext cx="1974240" cy="2154960"/>
          </a:xfrm>
          <a:prstGeom prst="bentConnector4">
            <a:avLst>
              <a:gd name="adj1" fmla="val -11581"/>
              <a:gd name="adj2" fmla="val 58279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5869080" y="1479600"/>
            <a:ext cx="1439640" cy="339840"/>
          </a:xfrm>
          <a:prstGeom prst="rect">
            <a:avLst/>
          </a:prstGeom>
          <a:solidFill>
            <a:srgbClr val="b2b2b2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joinIT  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File-Objekt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140000" y="3789360"/>
            <a:ext cx="1871640" cy="1440000"/>
            <a:chOff x="4140000" y="3789360"/>
            <a:chExt cx="1871640" cy="1440000"/>
          </a:xfrm>
        </p:grpSpPr>
        <p:sp>
          <p:nvSpPr>
            <p:cNvPr id="164" name=""/>
            <p:cNvSpPr/>
            <p:nvPr/>
          </p:nvSpPr>
          <p:spPr>
            <a:xfrm flipH="1" flipV="1">
              <a:off x="4140000" y="3789360"/>
              <a:ext cx="1871640" cy="1440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263800">
              <a:off x="4550760" y="4257720"/>
              <a:ext cx="145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utomatisiert</a:t>
              </a:r>
              <a:endParaRPr b="0" lang="en-US" sz="16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140360" y="3284640"/>
            <a:ext cx="1800000" cy="360360"/>
            <a:chOff x="4140360" y="3284640"/>
            <a:chExt cx="1800000" cy="360360"/>
          </a:xfrm>
        </p:grpSpPr>
        <p:sp>
          <p:nvSpPr>
            <p:cNvPr id="167" name=""/>
            <p:cNvSpPr/>
            <p:nvPr/>
          </p:nvSpPr>
          <p:spPr>
            <a:xfrm flipH="1">
              <a:off x="4140360" y="3645000"/>
              <a:ext cx="1800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67240" y="32846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anuell</a:t>
              </a:r>
              <a:endParaRPr b="0" lang="en-US" sz="16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C072B-1934-4115-97E8-9687784C5D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81481E-006 L -0.21268 -0.09445 E">
                                      <p:cBhvr>
                                        <p:cTn id="42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Arial Rounded MT 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28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29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788000" y="1628640"/>
            <a:ext cx="1944720" cy="3024360"/>
          </a:xfrm>
          <a:prstGeom prst="rect">
            <a:avLst/>
          </a:prstGeom>
          <a:solidFill>
            <a:srgbClr val="b2b2b2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140000" y="3789360"/>
            <a:ext cx="1871640" cy="1440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628640"/>
            <a:ext cx="3384720" cy="1582920"/>
          </a:xfrm>
          <a:prstGeom prst="rect">
            <a:avLst/>
          </a:prstGeom>
          <a:solidFill>
            <a:srgbClr val="b2b2b2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23080" y="167220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oinIT Web</a:t>
            </a:r>
            <a:endParaRPr b="0" lang="en-US" sz="2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755640" y="2204280"/>
            <a:ext cx="1166760" cy="641520"/>
          </a:xfrm>
          <a:prstGeom prst="rect">
            <a:avLst/>
          </a:prstGeom>
          <a:solidFill>
            <a:srgbClr val="b2b2b2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äsentations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ttform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12000" y="2277000"/>
            <a:ext cx="1360440" cy="45900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bench bzw.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e-Objekt Edito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908000" y="2492280"/>
            <a:ext cx="5032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1701720"/>
            <a:ext cx="1440000" cy="33984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ile-Laye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20720" y="263592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oinIT OS</a:t>
            </a:r>
            <a:endParaRPr b="0" lang="en-US" sz="2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24720" y="1197000"/>
            <a:ext cx="1158840" cy="584280"/>
          </a:xfrm>
          <a:prstGeom prst="rect">
            <a:avLst/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ktu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88000" y="5229360"/>
            <a:ext cx="1405080" cy="576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Z-Schedule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z.B. OPC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24720" y="2637000"/>
            <a:ext cx="1158840" cy="583920"/>
          </a:xfrm>
          <a:prstGeom prst="rect">
            <a:avLst/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4797360"/>
            <a:ext cx="1158840" cy="584280"/>
          </a:xfrm>
          <a:prstGeom prst="rect">
            <a:avLst/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eduling 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4" idx="3"/>
            <a:endCxn id="183" idx="1"/>
          </p:cNvCxnSpPr>
          <p:nvPr/>
        </p:nvCxnSpPr>
        <p:spPr>
          <a:xfrm flipV="1">
            <a:off x="3773520" y="2229840"/>
            <a:ext cx="1303920" cy="276840"/>
          </a:xfrm>
          <a:prstGeom prst="bentConnector3">
            <a:avLst>
              <a:gd name="adj1" fmla="val 49930"/>
            </a:avLst>
          </a:prstGeom>
          <a:ln w="3240">
            <a:solidFill>
              <a:srgbClr val="000000"/>
            </a:solidFill>
            <a:miter/>
            <a:headEnd len="med" type="oval" w="med"/>
            <a:tailEnd len="lg" type="triangle" w="lg"/>
          </a:ln>
        </p:spPr>
      </p:cxnSp>
      <p:sp>
        <p:nvSpPr>
          <p:cNvPr id="184" name=""/>
          <p:cNvSpPr/>
          <p:nvPr/>
        </p:nvSpPr>
        <p:spPr>
          <a:xfrm>
            <a:off x="757080" y="4503600"/>
            <a:ext cx="1224000" cy="716040"/>
          </a:xfrm>
          <a:prstGeom prst="can">
            <a:avLst>
              <a:gd name="adj" fmla="val 25000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andardisiertes Reporting zur Weiterverarbeitung</a:t>
            </a:r>
            <a:endParaRPr b="0" lang="en-US" sz="8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SV, TXT</a:t>
            </a:r>
            <a:endParaRPr b="0" lang="en-US" sz="8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4508640"/>
            <a:ext cx="1225440" cy="715680"/>
          </a:xfrm>
          <a:prstGeom prst="can">
            <a:avLst>
              <a:gd name="adj" fmla="val 25000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ividuelle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gabe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5013360"/>
            <a:ext cx="1512720" cy="93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put für beliebige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gramme ode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 zOS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5" idx="3"/>
            <a:endCxn id="173" idx="1"/>
          </p:cNvCxnSpPr>
          <p:nvPr/>
        </p:nvCxnSpPr>
        <p:spPr>
          <a:xfrm flipV="1" rot="16200000">
            <a:off x="504360" y="2775960"/>
            <a:ext cx="2699280" cy="2197800"/>
          </a:xfrm>
          <a:prstGeom prst="bentConnector4">
            <a:avLst>
              <a:gd name="adj1" fmla="val -8403"/>
              <a:gd name="adj2" fmla="val 119495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2987640" y="3429000"/>
            <a:ext cx="1158840" cy="584280"/>
          </a:xfrm>
          <a:prstGeom prst="rect">
            <a:avLst/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ript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1"/>
            <a:endCxn id="184" idx="1"/>
          </p:cNvCxnSpPr>
          <p:nvPr/>
        </p:nvCxnSpPr>
        <p:spPr>
          <a:xfrm flipV="1" rot="10800000">
            <a:off x="1369440" y="3720600"/>
            <a:ext cx="1618200" cy="783360"/>
          </a:xfrm>
          <a:prstGeom prst="bent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8" idx="2"/>
            <a:endCxn id="185" idx="1"/>
          </p:cNvCxnSpPr>
          <p:nvPr/>
        </p:nvCxnSpPr>
        <p:spPr>
          <a:xfrm rot="5400000">
            <a:off x="3011400" y="3953520"/>
            <a:ext cx="496080" cy="615240"/>
          </a:xfrm>
          <a:prstGeom prst="bentConnector3">
            <a:avLst>
              <a:gd name="adj1" fmla="val 49963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endCxn id="186" idx="1"/>
          </p:cNvCxnSpPr>
          <p:nvPr/>
        </p:nvCxnSpPr>
        <p:spPr>
          <a:xfrm flipH="1" flipV="1" rot="10800000">
            <a:off x="3131640" y="5229000"/>
            <a:ext cx="720000" cy="253080"/>
          </a:xfrm>
          <a:prstGeom prst="bentConnector3">
            <a:avLst>
              <a:gd name="adj1" fmla="val -4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8" idx="2"/>
          </p:cNvCxnSpPr>
          <p:nvPr/>
        </p:nvCxnSpPr>
        <p:spPr>
          <a:xfrm rot="5400000">
            <a:off x="7074360" y="1438920"/>
            <a:ext cx="687960" cy="137232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endCxn id="180" idx="0"/>
          </p:cNvCxnSpPr>
          <p:nvPr/>
        </p:nvCxnSpPr>
        <p:spPr>
          <a:xfrm>
            <a:off x="6732720" y="2500200"/>
            <a:ext cx="1372320" cy="13752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>
            <a:off x="6804000" y="3428640"/>
            <a:ext cx="1372320" cy="13716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endCxn id="181" idx="0"/>
          </p:cNvCxnSpPr>
          <p:nvPr/>
        </p:nvCxnSpPr>
        <p:spPr>
          <a:xfrm>
            <a:off x="6588000" y="4365360"/>
            <a:ext cx="1588320" cy="43236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7524720" y="3573360"/>
            <a:ext cx="1158840" cy="584280"/>
          </a:xfrm>
          <a:prstGeom prst="rect">
            <a:avLst/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CL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80" idx="2"/>
          </p:cNvCxnSpPr>
          <p:nvPr/>
        </p:nvCxnSpPr>
        <p:spPr>
          <a:xfrm rot="5400000">
            <a:off x="7325640" y="2627280"/>
            <a:ext cx="185040" cy="137232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2"/>
            <a:endCxn id="199" idx="3"/>
          </p:cNvCxnSpPr>
          <p:nvPr/>
        </p:nvCxnSpPr>
        <p:spPr>
          <a:xfrm rot="5400000">
            <a:off x="7301160" y="3443760"/>
            <a:ext cx="89640" cy="151704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148360" y="4076640"/>
            <a:ext cx="1439640" cy="339840"/>
          </a:xfrm>
          <a:prstGeom prst="rect">
            <a:avLst/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lauffähige JCL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81" idx="2"/>
          </p:cNvCxnSpPr>
          <p:nvPr/>
        </p:nvCxnSpPr>
        <p:spPr>
          <a:xfrm rot="5400000">
            <a:off x="7542360" y="4931280"/>
            <a:ext cx="183240" cy="108324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 flipH="1" flipV="1">
            <a:off x="4140360" y="3715920"/>
            <a:ext cx="1008000" cy="576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76720" y="2048040"/>
            <a:ext cx="1440000" cy="339480"/>
          </a:xfrm>
          <a:prstGeom prst="rect">
            <a:avLst/>
          </a:prstGeom>
          <a:solidFill>
            <a:srgbClr val="b2b2b2">
              <a:alpha val="3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38120" y="620640"/>
            <a:ext cx="24102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alfall: nur für DB2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endCxn id="178" idx="0"/>
          </p:cNvCxnSpPr>
          <p:nvPr/>
        </p:nvCxnSpPr>
        <p:spPr>
          <a:xfrm flipH="1" rot="10800000">
            <a:off x="5076360" y="1196280"/>
            <a:ext cx="3028320" cy="964440"/>
          </a:xfrm>
          <a:prstGeom prst="curvedConnector5">
            <a:avLst>
              <a:gd name="adj1" fmla="val -16823"/>
              <a:gd name="adj2" fmla="val 61837"/>
              <a:gd name="adj3" fmla="val -16823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/>
          <p:nvPr/>
        </p:nvCxnSpPr>
        <p:spPr>
          <a:xfrm flipH="1" rot="10800000">
            <a:off x="756720" y="2707560"/>
            <a:ext cx="1974240" cy="2154960"/>
          </a:xfrm>
          <a:prstGeom prst="bentConnector4">
            <a:avLst>
              <a:gd name="adj1" fmla="val -11581"/>
              <a:gd name="adj2" fmla="val 58279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5076720" y="2060640"/>
            <a:ext cx="1440000" cy="33984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joinIT  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File-Objekt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6000" y="2060640"/>
            <a:ext cx="0" cy="33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92920" y="2060640"/>
            <a:ext cx="0" cy="33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99200" y="2060640"/>
            <a:ext cx="0" cy="33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62640" y="2060640"/>
            <a:ext cx="0" cy="336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1DF61-C6B6-4CE1-AF69-88010C767A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4e2"/>
            </a:gs>
            <a:gs pos="100000">
              <a:srgbClr val="ffd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79640" y="907920"/>
            <a:ext cx="3529080" cy="525780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2932200"/>
            <a:ext cx="2592360" cy="150480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andardfunktionalitäten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-8280"/>
            <a:ext cx="3819600" cy="723600"/>
          </a:xfrm>
          <a:prstGeom prst="can">
            <a:avLst>
              <a:gd name="adj" fmla="val 29972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B2     IMS      TABEX      PO/PS        VSAM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6320" y="479700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oinIT OS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24720" y="1197000"/>
            <a:ext cx="1158840" cy="58428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ruktur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24720" y="2924280"/>
            <a:ext cx="1158840" cy="58392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7" idx="3"/>
            <a:endCxn id="214" idx="0"/>
          </p:cNvCxnSpPr>
          <p:nvPr/>
        </p:nvCxnSpPr>
        <p:spPr>
          <a:xfrm>
            <a:off x="7596000" y="512280"/>
            <a:ext cx="508680" cy="68508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4" idx="2"/>
          </p:cNvCxnSpPr>
          <p:nvPr/>
        </p:nvCxnSpPr>
        <p:spPr>
          <a:xfrm rot="5400000">
            <a:off x="6040440" y="672120"/>
            <a:ext cx="954720" cy="317268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20" idx="3"/>
            <a:endCxn id="215" idx="0"/>
          </p:cNvCxnSpPr>
          <p:nvPr/>
        </p:nvCxnSpPr>
        <p:spPr>
          <a:xfrm>
            <a:off x="4932000" y="2816280"/>
            <a:ext cx="3172680" cy="10872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>
            <a:off x="4066920" y="5229000"/>
            <a:ext cx="3431160" cy="20880"/>
          </a:xfrm>
          <a:prstGeom prst="curvedConnector5">
            <a:avLst>
              <a:gd name="adj1" fmla="val 49968"/>
              <a:gd name="adj2" fmla="val 49122"/>
              <a:gd name="adj3" fmla="val 49968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524720" y="4869000"/>
            <a:ext cx="1158840" cy="58392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L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5" idx="2"/>
            <a:endCxn id="224" idx="3"/>
          </p:cNvCxnSpPr>
          <p:nvPr/>
        </p:nvCxnSpPr>
        <p:spPr>
          <a:xfrm rot="5400000">
            <a:off x="5261760" y="2339640"/>
            <a:ext cx="1674000" cy="401076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2" idx="2"/>
            <a:endCxn id="226" idx="3"/>
          </p:cNvCxnSpPr>
          <p:nvPr/>
        </p:nvCxnSpPr>
        <p:spPr>
          <a:xfrm rot="5400000">
            <a:off x="6442920" y="4032000"/>
            <a:ext cx="240480" cy="308232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2411280" y="5445000"/>
            <a:ext cx="2611440" cy="49392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lauffähige JCL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5640" y="907920"/>
            <a:ext cx="3240000" cy="93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le-Layer</a:t>
            </a: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DB2        IMS       TABEX        PO/PS      VSAM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24000" y="1197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QLCA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1197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QLCA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0" y="1197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SB Gen.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35280" y="1197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omm.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ruktur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1197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EOF                EOF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Länge AREA über JFCB </a:t>
            </a:r>
            <a:endParaRPr b="0" lang="en-US" sz="7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9600" y="50130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ript 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43640" y="189000"/>
            <a:ext cx="1152720" cy="647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pybook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B2-Catalog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795640" y="404280"/>
            <a:ext cx="6476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2205000"/>
            <a:ext cx="2611440" cy="49392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ariabler join verschiedener Datenbestände über die File-Objekte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6320" y="150804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le-Objekte</a:t>
            </a:r>
            <a:endParaRPr b="0" lang="en-US" sz="16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5640" y="1557360"/>
            <a:ext cx="3240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277080" y="1844640"/>
            <a:ext cx="1259640" cy="360360"/>
            <a:chOff x="3277080" y="1844640"/>
            <a:chExt cx="1259640" cy="360360"/>
          </a:xfrm>
        </p:grpSpPr>
        <p:sp>
          <p:nvSpPr>
            <p:cNvPr id="238" name=""/>
            <p:cNvSpPr/>
            <p:nvPr/>
          </p:nvSpPr>
          <p:spPr>
            <a:xfrm>
              <a:off x="3835440" y="1844640"/>
              <a:ext cx="0" cy="36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77080" y="1916280"/>
              <a:ext cx="125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mögliche Operationen</a:t>
              </a:r>
              <a:endParaRPr b="0" lang="en-US" sz="800" spc="-1" strike="noStrike">
                <a:solidFill>
                  <a:srgbClr val="d2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95280" y="1557360"/>
            <a:ext cx="32400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1844640"/>
            <a:ext cx="32400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11440" y="3251160"/>
            <a:ext cx="2298600" cy="27000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enkonvertierung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2708280"/>
            <a:ext cx="2305080" cy="21600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eld- bzw. Satzbeschreibung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11440" y="3538440"/>
            <a:ext cx="2308320" cy="27000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alenderrechnung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11440" y="3819600"/>
            <a:ext cx="2308320" cy="26964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nonymisierte Datengenerierung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12" idx="2"/>
            <a:endCxn id="235" idx="1"/>
          </p:cNvCxnSpPr>
          <p:nvPr/>
        </p:nvCxnSpPr>
        <p:spPr>
          <a:xfrm flipV="1" rot="10800000">
            <a:off x="610560" y="353520"/>
            <a:ext cx="1369080" cy="1323360"/>
          </a:xfrm>
          <a:prstGeom prst="curvedConnector5">
            <a:avLst>
              <a:gd name="adj1" fmla="val 116701"/>
              <a:gd name="adj2" fmla="val 49986"/>
              <a:gd name="adj3" fmla="val 116701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282040" y="160668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d20000"/>
                </a:solidFill>
                <a:latin typeface="Arial"/>
              </a:rPr>
              <a:t>joinIT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19280" y="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OS</a:t>
            </a:r>
            <a:endParaRPr b="0" lang="en-US" sz="12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65800" y="198900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zeugt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94520" y="39337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zeugt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57800" y="54165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zeugt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92640" y="47628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PUT für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65520" y="285264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PUT für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65520" y="491328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PUT für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50920" y="907920"/>
            <a:ext cx="1728720" cy="2089440"/>
          </a:xfrm>
          <a:prstGeom prst="line">
            <a:avLst/>
          </a:prstGeom>
          <a:ln w="12600">
            <a:solidFill>
              <a:srgbClr val="99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250920" y="3500280"/>
            <a:ext cx="1728720" cy="2665440"/>
          </a:xfrm>
          <a:prstGeom prst="line">
            <a:avLst/>
          </a:prstGeom>
          <a:ln w="12600">
            <a:solidFill>
              <a:srgbClr val="99cc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4467240"/>
            <a:ext cx="2611440" cy="33804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IT  -  Direktzugriff joinIT-File-Objekt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0360" y="29962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oinIT OS</a:t>
            </a:r>
            <a:endParaRPr b="0" lang="en-US" sz="2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2000" y="363600"/>
            <a:ext cx="48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d20000"/>
                </a:solidFill>
                <a:latin typeface="Arial"/>
              </a:rPr>
              <a:t>joinIT</a:t>
            </a:r>
            <a:endParaRPr b="0" lang="en-US" sz="9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11440" y="4105440"/>
            <a:ext cx="2308320" cy="269640"/>
          </a:xfrm>
          <a:prstGeom prst="rect">
            <a:avLst/>
          </a:prstGeom>
          <a:solidFill>
            <a:srgbClr val="99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iele mehr !</a:t>
            </a:r>
            <a:endParaRPr b="0" lang="en-US" sz="1000" spc="-1" strike="noStrike">
              <a:solidFill>
                <a:srgbClr val="d2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AB9B4-1D01-45DA-AA33-AA184F7097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13:03:24Z</dcterms:created>
  <dc:creator>abcef</dc:creator>
  <dc:description/>
  <dc:language>en-US</dc:language>
  <cp:lastModifiedBy>Willi Dost</cp:lastModifiedBy>
  <dcterms:modified xsi:type="dcterms:W3CDTF">2006-02-22T10:39:45Z</dcterms:modified>
  <cp:revision>141</cp:revision>
  <dc:subject/>
  <dc:title>PowerPoint-Präsentation</dc:title>
</cp:coreProperties>
</file>